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190-F1E9-4A7D-9E47-B2FFE60C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26C-49F3-49FB-9D6D-7ED37C4B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564-725B-4DE6-81EC-23C29F76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408-7602-4B85-A8DD-D6204175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B09-ED75-4B2A-97A4-D4B0EB7C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79E-4BBC-4C9E-87C1-8AE18622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4AC-948C-49FD-AD77-25BEEC5A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728-1E36-4430-B1A5-E7A3598A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172-C003-4B11-9EE2-7094B6A0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269-5DBA-4843-89CB-90A9D117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169-BAC7-41C8-A163-6E11DDCA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92C-F596-4503-86CE-AD2AAC4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365A-6B75-4359-B4A5-9126C5B11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"/>
          <p:cNvPicPr/>
          <p:nvPr/>
        </p:nvPicPr>
        <p:blipFill>
          <a:blip r:embed="rId1"/>
          <a:stretch/>
        </p:blipFill>
        <p:spPr>
          <a:xfrm>
            <a:off x="390600" y="1584360"/>
            <a:ext cx="8315280" cy="4560840"/>
          </a:xfrm>
          <a:prstGeom prst="rect">
            <a:avLst/>
          </a:prstGeom>
          <a:ln w="0">
            <a:noFill/>
          </a:ln>
        </p:spPr>
      </p:pic>
      <p:sp>
        <p:nvSpPr>
          <p:cNvPr id="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69B3-DDB7-4ED4-A3A6-50C6A0D46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arol Koechli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53:34Z</dcterms:created>
  <dc:creator>Carol Koechlin</dc:creator>
  <dc:description/>
  <dc:language>en-US</dc:language>
  <cp:lastModifiedBy>Carol Koechlin</cp:lastModifiedBy>
  <dcterms:modified xsi:type="dcterms:W3CDTF">2010-04-12T15:40:01Z</dcterms:modified>
  <cp:revision>2</cp:revision>
  <dc:subject/>
  <dc:title>The Process</dc:title>
</cp:coreProperties>
</file>